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12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1FE6-00C9-4121-8910-8E50AAA3D2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B5E8-3EE8-4D37-B320-9FAC2765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4BEDE8-1530-4E5F-9809-B4D2F821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66CDB9-949C-47ED-B3E6-6752CFA8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5DD531-9700-42C3-91DE-D3754135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5D7633-6CF4-46F1-A0C1-CF520BFC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829CAB-561A-45D5-B5F3-403924EA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0F5427-9F7B-4E66-9E8F-961D762F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80ABDD-29DE-4D81-8E09-F6F92845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EDA220-504B-4637-8123-90F1C746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DA7BB4-7824-466D-9E59-9D98435E7D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1A736-805C-45B8-999F-2FD398E00A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7F84B-5809-4DF2-A14F-06E31F9A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A816B-3DD6-432A-A08C-5432FC52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ACD83-5450-47EC-B39C-C5F36FA6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AD21D-D044-4AAD-A847-E9CCFB95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8BDA6-E448-4B74-9F7C-EFFE3852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5D5D0-9708-457B-AC62-C5BC812D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5BD18-EDA2-432B-B154-2FB03B91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CB5C8-44AB-4B97-BAEB-7BE61CF9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789DF-F12A-4B56-8205-E2BE3B67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ABE8E-DC3C-41D1-B9B4-9C0DD73B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7DEC1-201F-43C4-BAD9-2D99CEFD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2158-6481-4D1F-A1BF-2155A55BD2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1F8C3-8A1D-4AF5-931A-247E1409A0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8B470C-7152-4F4D-826D-2C5CD405DA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7406EA-34BF-4BA5-A669-44940D90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117A15-D465-42A0-AD1A-7EEE9DDF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8FD700-DFD4-4F28-ABAB-74CA56E0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10B682-E9BF-4FBD-BC77-5E5B56D9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F2B54B-FDFC-4786-A8AF-82A1C614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5A37AF-97E8-44B4-AA87-B289D743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74F477-CE98-46B8-BC0E-705C1859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783205-F9E1-4FC7-B9B3-C1313770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0E337-2BD6-48C1-ADCA-F54A77BE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21419C-370E-4BF1-BEC9-0E5CC460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70E776-D375-44AE-8146-5F698F10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48D621-0286-4971-9985-B73F1FB3C3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73E3E-4AA2-4268-8588-A6F35CA0CD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77491-BB2A-4FEB-A722-34F76EAA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A1F5B-2BC1-43AC-A669-9ABC4455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334AC8-77E8-486C-ADCB-3C732DED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B7FB4-0CE2-42EA-A8CD-3C324B47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5C19B-2954-4DA9-89BB-4F3C94CB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53E4C-E4EB-4CF0-9BD6-1BAE7C94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C6951-C44B-4E5E-91EF-B253643D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D347C-9363-45DD-86E1-A749FA93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68C3D-F800-4C74-A150-88CABD61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2D90F-B169-492A-B576-05DFF35E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BB0CD-59E7-4556-91D1-5FDA9EC6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C348B-9DE7-4BAC-B042-187FC56A02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85D6E-A1F4-4FB0-B901-5ECD592793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A0F9D-BC76-420F-826C-CF86CD3F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C1942-1DDE-4237-9621-8537A0D9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C9A07-0E68-4701-8673-389853B1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CF100-1AD2-4D4F-A988-9173269B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47424-B77C-418B-98CE-3DDBD83E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51B44-8351-4712-8C72-2BA06F1D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832BC-3FE8-4C31-A680-605938BF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3B6F9-BFAB-44A0-9277-E147749B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40B0B-2B86-469C-B9CC-63F8E7C3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489BB-95FC-480C-AD6E-EBC7A931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40DEE-DA6A-430E-AB4B-450BD6CF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F97BA-324B-4E86-BDB7-D23D61D6E3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74EF0-65F6-4BCC-B25A-4B4C8C22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98CF5-535E-439B-A5C3-7C0776CC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0DD58-78CA-4913-8EF2-F899B9B2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56104-B4F3-41EC-AFA9-2549B4F5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03EA3-983D-4001-BF8C-7A72B496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512AF-64B5-4C76-9733-4DB8F345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2C6E6-8C60-486F-BAF9-A0CAE80B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4FCAD-2033-4AF7-89B5-143E4CFD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2ADC3-A3B1-445D-A83F-6141570C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95122-114E-45F9-81D8-7AE2F051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B0931-1B66-4BE3-8980-3FC2EECE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A879C-C9E0-4909-90BF-EE5E1190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72DB0-8E46-46ED-AD84-016A3CEC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267EC-7AA8-4D3F-A227-24263AC6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563FE-BCA8-459B-B88D-EA28EBE5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81F64-AD78-4F4D-AB58-F6D55FFE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BA00E-FD75-4B17-B2FD-48D45E93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1702A-6F92-4836-976D-60A887EA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C15AE-7945-4C92-A79B-743F0054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2B358-C80E-4CC3-BDC1-F7AC96F8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12440-F26E-486C-AD0D-FCE111DD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42CCD-7CF8-42ED-96E9-72CCB92E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2AA38-A16B-4999-8DA7-25C38FE5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3F091-0E0E-4F76-AB52-19AAC3BD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F164A-9838-4292-87D3-E30AF00C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A8D79-0ABA-4933-A42F-79DB23D8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88E43-E540-44BB-A1F6-BB219017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2C140-F053-4138-93FB-1C0D2D04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4D759-2EC9-4C7D-A9BF-D2AB336B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5F39D-13A5-49B2-B731-5FC64BA7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CE4FD-806D-42D4-9235-DE5D8F38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CBDC0-D1A6-4D5D-BFC3-CE505E2C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A0945-74F8-4734-A324-EE510358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E356E-4D09-41B7-A677-18F2240F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DEB97-80CC-40B0-8A7A-499AFAB3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299CD-5936-4FB7-AE39-B847A4E2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F09A5-47A1-462D-A2D1-52C27A0F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7A012-9FE2-45FA-B702-E603F607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A869A-2794-477A-9915-006DB312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89EDA-F747-4218-97A9-60E6FABF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9C6C6-4BF8-47F1-96B3-8491785A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17340-3D9D-4E87-A063-D800C65B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2E867-2D29-40DF-BAFC-B7FBC29D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D6342-D266-4D69-B0C6-243EE955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E9B1A-A981-47C6-A88E-FEC87223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FD833-20F4-483E-9BD6-EF178B14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469A8-CA5D-4D8B-AFF0-76466936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9845F-A299-42A1-BDFF-C0479F5B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4F3AF-44CB-45B9-AE1E-06EE5AA7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541C4-C564-4D66-9879-A31FFC22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6189C-4CE8-4FA7-B24C-F89F5425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5A751-6E8C-4B97-8F14-02CD0508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80DF7-C5C4-433B-8851-8942D6F0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49E21-4E26-412A-9653-A5371E69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F0C00-174F-4975-B768-CFF4AEB5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02F4E-040D-45E1-BB2D-4E73E2C5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675976-5CC4-4944-8843-7B567EAA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A2148-3C52-4F48-9FF0-29A5B13B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DA57B-5EFE-4A0D-A0DC-93C1A228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796F5-C6FC-4EB2-8811-B6186307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7542A-9283-473D-9881-D522F33F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610F49-DBE4-4459-BB9A-C9FE628D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EB265-70BB-425A-BE4C-C34FE981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9660B-35FE-493E-BDE5-EC05D4EB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21F43-AD52-4F8C-B818-62D398FF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B0580-A655-4CF4-8F91-55F3D76C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F87A6-5AE7-4D07-AED3-03D3C60C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26B454-0EB9-4E5B-8E19-D83F3ABD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9CD399-DD11-4362-91C8-561C0EAE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38DD33-31E7-40EE-A310-FF7C3E78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65DF5-DB99-491B-83E8-8857165B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D16ABE-858C-4B35-88AD-023F9F7F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9E797D-AA3A-4722-A554-8A412B9F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39BA82-0F3D-411C-AD39-2B215A86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DFEF5-5534-481A-9977-30455D86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FCD1CC-8D24-42F2-97E2-240807B1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34FF4F-F3B8-46BE-BD8A-A74AEF84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7304A0-AC3F-4934-A051-5BC71836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2A5F6B-93F6-4BF4-A214-7F12E31B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61305-6457-4839-89FE-535CA9EB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359A47-F602-492E-9534-99B90FFE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DDA76-F0A3-4C92-8B80-62BFBB8A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0F83CD-028F-4AF8-900A-4CB22083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4BD8CA-CFFF-46B4-B9C2-9B0F294E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5654EB-B54F-47F6-B20E-76D2C24A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96C700-6AFC-48D1-A787-E124C963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B2BDBD-915E-4B1F-B279-C3DCF06E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D9BEE3-9EA6-4570-BAF3-747983E4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815AB1-7F7C-4465-A521-C60C94F0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1EE2A-440F-40EF-B5D9-56A5BB25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34D513-DC39-4969-B5A8-987BB0D9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0F19D7-61E9-4CDC-ADB9-16E32064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F5A87-1221-4BEF-82D9-9BFB276D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02826-841A-4420-8D37-A5584554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EC3322-259E-4C95-867B-D0B7FE2D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543F42-6BBE-4D9E-82B0-8E23C14B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DF03B5-C6F7-422B-A103-529110CC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E76E26-87F8-4BC4-8553-9D9CD412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6E1168-9292-427F-A784-09E2D004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62A41-44AE-4544-B4E5-D0227BFB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0383DF-FEC3-4134-817E-C98D73FA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1FE3B6-BCA7-4EB8-967A-37EA0652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7F575C-9384-46A3-8BD4-F4D44A8D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FC3C94-DCCE-49A5-AB99-BD6E372660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BA39C7-E2B2-4E33-8DB6-37775EDA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BA6062-D6BA-4F18-935F-DE080252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02F9E6-4834-4F38-B6AD-7D4485AF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049AE7-D968-44EC-88B1-1B34F624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9ACF52-5CEE-44A4-9C2E-99E0ACCD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1F5891-9E59-4E16-92D6-266DADDA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329E16-4380-4A2C-805B-C8FB9F37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16557-69D3-4A47-BCD8-D38534E1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5BB888-56D6-4758-9642-BE9A4415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29BB43-97AD-4E2B-B277-6346F14E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8E2201-146E-457A-A6A2-2536599F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99D7A6-2FD1-4599-9BFC-49010FFD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AF29CD-D17A-487D-9836-81495B55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74592E-495D-4F6D-9BC0-7F200EDA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B3C0AE-A8D6-4AE5-AA80-882F4952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E48450-A915-48D4-B392-B788F320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B28D84-CED3-49C9-91E7-E54AA673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7E39E6-AE77-4837-8E7F-96F4F725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F7FA35-E41E-4ED7-8AE1-A37D27F9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BFF30D-4E83-483F-BACE-D8D72465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A92DFE-7C54-4B34-B1F3-1EA1729B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CAF75A-1490-4304-B618-613D922C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0EEF9C-C634-4ED9-B3A1-F83BC8AD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C20216-CA8E-4B4D-88FD-9B6AA908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350E6E-8C79-4F67-BC1A-A871EACD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8F108D-D80B-48DA-8943-4985411E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0C4DC5-0178-417E-8D09-CB528A71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A084B7-88A5-4960-99A3-82688BE6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735334-52E3-4B31-AC0D-A909203D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618A3B-BE77-4C5C-85F9-B001148D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99ECDF-CB46-4C29-81D7-6E6FC8DE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74F50C-67C2-4492-812C-05DEB488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A34E48-14E2-4A16-A842-60F8396A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096E3F-376C-469B-ACDA-2A024BA2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D9F586-268E-4992-806F-0F6E0ABC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DA4F30-7C05-4BDF-AAED-4F7D6130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1AA3AE-ABD8-4A9F-928B-D813D95F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9FA9F-F132-4E85-A82E-A0063DA1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06D187-26B2-4E7C-A03A-EE073783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14E909-6337-48DE-944C-9B55A93F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EC7FA8-FB16-4AD0-9E38-1AA3C06E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5FEB83-1A52-4E64-AF9C-7B788D08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4FD1F-4ADC-480B-ACEB-85C3FC01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B0E5A-467E-4BBA-900C-BDE2F53C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61D427-B2A5-4475-81B5-7CE966EF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B1B516-9FF5-43A7-884E-ED2DA253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7CD30C-5CA1-4358-B3EE-C70F2944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5CDF78-4016-4954-8A7F-C4ACDB42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79FD96-F5A8-4DCB-8398-445733C2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D95753-EE62-4DB7-9897-D314ECFB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F11442-675B-4459-A146-6672D0C2D7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EB71-AB39-43DB-B3DA-F36651F7D1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AF020-B56D-4184-8983-F5CC219C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42AFB-967C-4EFF-89C0-1D8807D6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7D2ED-430D-406F-ACEF-2368B660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DA0DA-3F42-4551-AF7F-2B123792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B3908-DCE4-44C4-8CAE-663B240B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C9183-3058-4ED1-8A8D-FFEA805E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24538-38FF-41DF-8163-066672D0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F10B2-28E6-469C-873B-746EE44E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A7021-BC6B-4A5B-B86D-AC34C9C0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C1F5B-57D7-4AC1-8A3A-506736E5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B7EF4-D57B-4ED3-B7B6-DA2730E8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2BDAB-8D21-4307-B315-2CF0684E6C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38891-A2E7-44FA-B720-672539F7F9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C633-7994-486A-9BC1-B0F3878A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E4A4CD-1914-441B-A21E-CA46A7E0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E9BCD-9BC8-4B20-A631-66A74299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BDB07-DE40-42ED-9CBB-DBD3CEC0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CE8BA-A47B-4CA3-889F-BBCC6BE2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6572FF-AD55-4A98-9802-71943658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A1BA8-F88A-4796-AD58-B34D2D9A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6F134A-9F27-47BD-A01C-58CB3180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F5DC60-167F-46FE-8802-E0C97FFE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6329B8-FD3E-46EA-AC1F-8C66C1C8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C4F85-CE70-48F9-9028-CF07FC20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BD1D4-C5ED-4753-B430-9E30606A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B36467-3B3E-4BD5-A9DE-25D1A26F3A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537446-F213-4B6B-8A44-5E080F9C02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F7B5C8-A50F-478E-9DBE-A42B584D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7D8DF6-A22E-4C49-8AFE-3A9C4567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497CEE-1985-48AE-920B-E046A810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88C09B-9072-4156-9354-1670880A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1DD2F1-0906-4902-92B4-A6A6AF66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761BDD-AAFE-49A1-AAEA-97F510DF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95B269-7486-48F6-A96D-476ACF91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64068C-37BC-4651-A10E-A9587CBC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00E29-3557-42FF-8CEB-2C857751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15E1EB-67CD-4DA3-9E62-994B2FD0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8C0AFE-72ED-4D83-8CD6-F8B146A4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AFF58A-76C2-48DD-BCAE-13D536D50B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3BFDC-186C-4874-B1E1-D4AA7BBF69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A1F75-9C51-4A6C-8BE3-276DC4A9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8E22B-A8AB-4B39-8892-44B5A7CE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6279E-3A1C-4815-91FD-15C65E4C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12D15-4E52-48F5-983F-8D503AA2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49BFB-9B63-490B-95A1-70949BA7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07631-56BC-44AD-BCFC-B50EEC34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4481A-91B8-44DF-9396-E439BAB7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19E74-B604-4531-B742-FCD1CEF9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7DE17-7621-4072-8356-1E3C9E7A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52424-632D-4ECA-9478-449226C7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C2A3B-9BA6-4B52-AAE0-EC4DCA0D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EAD15-B2C0-4958-A9F8-25371AB77F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C17523-1FC1-49EA-B69B-BD7804C3BD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7C80EB-5152-46ED-B1A8-4A0856F3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50654-E7F8-45A5-A2DE-B7813A52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69EC0-0318-428A-A0D1-63BEEC97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8FB3E-B933-4B22-931B-A3BFC6F0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5633-728D-41B9-BC18-5916AC0D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049395-24D6-4F41-A745-88AE4355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B2947F-45A7-44B3-A546-0D5D74AA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EC919-D0E3-4885-A6BF-242EDE1F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81B5C-AF5E-417C-B43C-233AB01C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54F02-977E-4C48-ABF8-87FEB8BC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5EDF29-7566-4F61-BCDC-1ADD283A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2B77F0-6048-4451-8457-8B15035352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62A1E0-452F-4A99-9D8F-D4B669D4A9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EC424D-77F9-49FF-8F8D-D68B7FAB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82703F-104C-4EEA-AA21-F0426811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E041-EFDB-4AF8-A51E-3BE10579639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7EC3-C2B1-4D12-BAA1-A723BCE179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33BF-96EB-4485-9B91-BF0DE34CF8B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91EC-B343-4D16-8EF9-93BEF3565B1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2F6D-77EF-495A-B254-BF372D0C40C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8CB9-6C9D-4D67-A4DE-C69B654C5FB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0645-CB54-48DF-9091-71177A7FC81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A19D-3AB1-4B94-A2F9-6BF74068BBF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6D0D-3117-4E8A-A5A8-2A454CAB85A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2E43-20C6-4951-9CE2-8882DF04846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DF2E-8AC6-49D6-B6B5-CF7E2B9EB9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BC9A-3C3F-4D6C-B785-A242D299C6A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5AC6-33F3-489D-B891-95A7DFA1E17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B342-EBD6-45E5-A2A6-A2AF2D5182D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B1C2-7EDE-454D-BD9A-9A7FC197F6B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BB8C-AD1E-4DFE-893D-34BD979F39A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4685-D599-40D0-ABD5-0A48D109192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74B5-6A3E-414E-8093-F039505DDE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0703-8185-427C-A3D9-B3BBABDBC0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7DF0-5121-44CE-B4C2-1C7CEC93E5E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7AFA-21F2-4224-896C-AF218698599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635E-847D-4619-BD3F-8F325D86C81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B57C-D339-4DB9-A703-D141CD29FE4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E0DF-06B8-4708-96BF-948317774E6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701800" y="268920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数学广角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5205240" cy="360"/>
            <a:chOff x="2284560" y="2448000"/>
            <a:chExt cx="520524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520524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5205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11040" y="174456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学广角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17"/>
          <p:cNvGrpSpPr/>
          <p:nvPr/>
        </p:nvGrpSpPr>
        <p:grpSpPr>
          <a:xfrm>
            <a:off x="1101600" y="1001880"/>
            <a:ext cx="3951360" cy="1296720"/>
            <a:chOff x="1101600" y="1001880"/>
            <a:chExt cx="3951360" cy="1296720"/>
          </a:xfrm>
        </p:grpSpPr>
        <p:pic>
          <p:nvPicPr>
            <p:cNvPr id="1099" name="Picture 15" descr="E:\2017秋上·黄倩\其他\人\海豚.jpg海豚"/>
            <p:cNvPicPr/>
            <p:nvPr/>
          </p:nvPicPr>
          <p:blipFill>
            <a:blip r:embed="rId1"/>
            <a:stretch/>
          </p:blipFill>
          <p:spPr>
            <a:xfrm>
              <a:off x="1101600" y="1082520"/>
              <a:ext cx="993960" cy="12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AutoShape 27"/>
            <p:cNvSpPr/>
            <p:nvPr/>
          </p:nvSpPr>
          <p:spPr>
            <a:xfrm>
              <a:off x="2333520" y="1001880"/>
              <a:ext cx="2719440" cy="1296720"/>
            </a:xfrm>
            <a:prstGeom prst="wedgeRoundRectCallout">
              <a:avLst>
                <a:gd name="adj1" fmla="val -59523"/>
                <a:gd name="adj2" fmla="val -1560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先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张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钟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再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张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钟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一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钟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21"/>
          <p:cNvGrpSpPr/>
          <p:nvPr/>
        </p:nvGrpSpPr>
        <p:grpSpPr>
          <a:xfrm>
            <a:off x="3492360" y="3090960"/>
            <a:ext cx="4238640" cy="1079280"/>
            <a:chOff x="3492360" y="3090960"/>
            <a:chExt cx="4238640" cy="1079280"/>
          </a:xfrm>
        </p:grpSpPr>
        <p:pic>
          <p:nvPicPr>
            <p:cNvPr id="1102" name="Picture 19" descr="E:\2017秋上·黄倩\其他\人\蜜蜂.gif蜜蜂"/>
            <p:cNvPicPr/>
            <p:nvPr/>
          </p:nvPicPr>
          <p:blipFill>
            <a:blip r:embed="rId2"/>
            <a:stretch/>
          </p:blipFill>
          <p:spPr>
            <a:xfrm>
              <a:off x="6751440" y="3090960"/>
              <a:ext cx="97956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3" name="AutoShape 27"/>
            <p:cNvSpPr/>
            <p:nvPr/>
          </p:nvSpPr>
          <p:spPr>
            <a:xfrm>
              <a:off x="3492360" y="3130200"/>
              <a:ext cx="2871720" cy="936360"/>
            </a:xfrm>
            <a:prstGeom prst="wedgeRoundRectCallout">
              <a:avLst>
                <a:gd name="adj1" fmla="val 56847"/>
                <a:gd name="adj2" fmla="val -1152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为什么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张饼和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张饼都用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钟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Rectangle 10"/>
          <p:cNvSpPr/>
          <p:nvPr/>
        </p:nvSpPr>
        <p:spPr>
          <a:xfrm>
            <a:off x="592200" y="30132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11"/>
          <p:cNvSpPr/>
          <p:nvPr/>
        </p:nvSpPr>
        <p:spPr>
          <a:xfrm>
            <a:off x="808200" y="32288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12"/>
          <p:cNvSpPr/>
          <p:nvPr/>
        </p:nvSpPr>
        <p:spPr>
          <a:xfrm>
            <a:off x="1024200" y="34448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Box 4"/>
          <p:cNvSpPr/>
          <p:nvPr/>
        </p:nvSpPr>
        <p:spPr>
          <a:xfrm>
            <a:off x="826920" y="642960"/>
            <a:ext cx="194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70c0"/>
                </a:solidFill>
                <a:latin typeface="Cambria"/>
                <a:ea typeface="宋体"/>
              </a:rPr>
              <a:t>烙</a:t>
            </a:r>
            <a:r>
              <a:rPr b="0" lang="en-US" sz="3000" spc="-1" strike="noStrike">
                <a:solidFill>
                  <a:srgbClr val="0070c0"/>
                </a:solidFill>
                <a:latin typeface="Cambria"/>
              </a:rPr>
              <a:t>3</a:t>
            </a:r>
            <a:r>
              <a:rPr b="0" lang="zh-CN" sz="3000" spc="-1" strike="noStrike">
                <a:solidFill>
                  <a:srgbClr val="0070c0"/>
                </a:solidFill>
                <a:latin typeface="Cambria"/>
                <a:ea typeface="宋体"/>
              </a:rPr>
              <a:t>张饼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Box 5"/>
          <p:cNvSpPr/>
          <p:nvPr/>
        </p:nvSpPr>
        <p:spPr>
          <a:xfrm>
            <a:off x="3276720" y="4748040"/>
            <a:ext cx="4390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Cambria"/>
                <a:ea typeface="宋体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Cambria"/>
                <a:ea typeface="宋体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2</a:t>
            </a:r>
            <a:r>
              <a:rPr b="0" lang="zh-CN" sz="3000" spc="-1" strike="noStrike">
                <a:solidFill>
                  <a:srgbClr val="000000"/>
                </a:solidFill>
                <a:latin typeface="Cambria"/>
                <a:ea typeface="宋体"/>
              </a:rPr>
              <a:t>（分钟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Group 34"/>
          <p:cNvGrpSpPr/>
          <p:nvPr/>
        </p:nvGrpSpPr>
        <p:grpSpPr>
          <a:xfrm>
            <a:off x="3059280" y="785880"/>
            <a:ext cx="3313080" cy="828720"/>
            <a:chOff x="3059280" y="785880"/>
            <a:chExt cx="3313080" cy="828720"/>
          </a:xfrm>
        </p:grpSpPr>
        <p:sp>
          <p:nvSpPr>
            <p:cNvPr id="1110" name="Oval 31"/>
            <p:cNvSpPr/>
            <p:nvPr/>
          </p:nvSpPr>
          <p:spPr>
            <a:xfrm>
              <a:off x="3059280" y="785880"/>
              <a:ext cx="828720" cy="82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32"/>
            <p:cNvSpPr/>
            <p:nvPr/>
          </p:nvSpPr>
          <p:spPr>
            <a:xfrm>
              <a:off x="4300560" y="785880"/>
              <a:ext cx="828720" cy="82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Oval 33"/>
            <p:cNvSpPr/>
            <p:nvPr/>
          </p:nvSpPr>
          <p:spPr>
            <a:xfrm>
              <a:off x="5543640" y="785880"/>
              <a:ext cx="828720" cy="82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组合 10"/>
          <p:cNvGrpSpPr/>
          <p:nvPr/>
        </p:nvGrpSpPr>
        <p:grpSpPr>
          <a:xfrm>
            <a:off x="541440" y="1938240"/>
            <a:ext cx="3743280" cy="2655360"/>
            <a:chOff x="541440" y="1938240"/>
            <a:chExt cx="3743280" cy="2655360"/>
          </a:xfrm>
        </p:grpSpPr>
        <p:sp>
          <p:nvSpPr>
            <p:cNvPr id="1114" name="TextBox 11"/>
            <p:cNvSpPr/>
            <p:nvPr/>
          </p:nvSpPr>
          <p:spPr>
            <a:xfrm>
              <a:off x="1766880" y="4170600"/>
              <a:ext cx="14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mbria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Cambria"/>
                  <a:ea typeface="宋体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左大括号 12"/>
            <p:cNvSpPr/>
            <p:nvPr/>
          </p:nvSpPr>
          <p:spPr>
            <a:xfrm rot="16200000">
              <a:off x="2284200" y="2962080"/>
              <a:ext cx="250560" cy="2235240"/>
            </a:xfrm>
            <a:custGeom>
              <a:avLst/>
              <a:gdLst>
                <a:gd name="textAreaLeft" fmla="*/ 160200 w 250560"/>
                <a:gd name="textAreaRight" fmla="*/ 250560 w 250560"/>
                <a:gd name="textAreaTop" fmla="*/ 6120 h 2235240"/>
                <a:gd name="textAreaBottom" fmla="*/ 2229120 h 223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"/>
                    <a:pt x="10800" y="194"/>
                  </a:cubicBezTo>
                  <a:lnTo>
                    <a:pt x="10800" y="11034"/>
                  </a:lnTo>
                  <a:cubicBezTo>
                    <a:pt x="10800" y="11131"/>
                    <a:pt x="5400" y="11228"/>
                    <a:pt x="0" y="11228"/>
                  </a:cubicBezTo>
                  <a:cubicBezTo>
                    <a:pt x="5400" y="11228"/>
                    <a:pt x="10800" y="11325"/>
                    <a:pt x="10800" y="11422"/>
                  </a:cubicBezTo>
                  <a:lnTo>
                    <a:pt x="10800" y="21406"/>
                  </a:lnTo>
                  <a:cubicBezTo>
                    <a:pt x="10800" y="21503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6" name="组合 42"/>
            <p:cNvGrpSpPr/>
            <p:nvPr/>
          </p:nvGrpSpPr>
          <p:grpSpPr>
            <a:xfrm>
              <a:off x="541440" y="1938240"/>
              <a:ext cx="1800360" cy="1800360"/>
              <a:chOff x="541440" y="1938240"/>
              <a:chExt cx="1800360" cy="1800360"/>
            </a:xfrm>
          </p:grpSpPr>
          <p:sp>
            <p:nvSpPr>
              <p:cNvPr id="1117" name="椭圆 21"/>
              <p:cNvSpPr/>
              <p:nvPr/>
            </p:nvSpPr>
            <p:spPr>
              <a:xfrm>
                <a:off x="541440" y="1938240"/>
                <a:ext cx="1800360" cy="1800360"/>
              </a:xfrm>
              <a:prstGeom prst="ellipse">
                <a:avLst/>
              </a:prstGeom>
              <a:solidFill>
                <a:srgbClr val="ccecff"/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8" name="组合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5000" y="2413800"/>
                <a:ext cx="1725480" cy="85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9" name="组合 42"/>
            <p:cNvGrpSpPr/>
            <p:nvPr/>
          </p:nvGrpSpPr>
          <p:grpSpPr>
            <a:xfrm>
              <a:off x="2484360" y="1938240"/>
              <a:ext cx="1800360" cy="1800360"/>
              <a:chOff x="2484360" y="1938240"/>
              <a:chExt cx="1800360" cy="1800360"/>
            </a:xfrm>
          </p:grpSpPr>
          <p:sp>
            <p:nvSpPr>
              <p:cNvPr id="1120" name="椭圆 15"/>
              <p:cNvSpPr/>
              <p:nvPr/>
            </p:nvSpPr>
            <p:spPr>
              <a:xfrm>
                <a:off x="2484360" y="1938240"/>
                <a:ext cx="1800360" cy="1800360"/>
              </a:xfrm>
              <a:prstGeom prst="ellipse">
                <a:avLst/>
              </a:prstGeom>
              <a:solidFill>
                <a:srgbClr val="ccecff"/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1" name="组合 34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9720" y="2413800"/>
                <a:ext cx="1719360" cy="85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22" name="组合 27"/>
          <p:cNvGrpSpPr/>
          <p:nvPr/>
        </p:nvGrpSpPr>
        <p:grpSpPr>
          <a:xfrm>
            <a:off x="4788000" y="1938240"/>
            <a:ext cx="3741480" cy="2655360"/>
            <a:chOff x="4788000" y="1938240"/>
            <a:chExt cx="3741480" cy="2655360"/>
          </a:xfrm>
        </p:grpSpPr>
        <p:sp>
          <p:nvSpPr>
            <p:cNvPr id="1123" name="TextBox 28"/>
            <p:cNvSpPr/>
            <p:nvPr/>
          </p:nvSpPr>
          <p:spPr>
            <a:xfrm>
              <a:off x="6013440" y="4170600"/>
              <a:ext cx="14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mbria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Cambria"/>
                  <a:ea typeface="宋体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左大括号 29"/>
            <p:cNvSpPr/>
            <p:nvPr/>
          </p:nvSpPr>
          <p:spPr>
            <a:xfrm rot="16200000">
              <a:off x="6530040" y="2963160"/>
              <a:ext cx="250560" cy="2233440"/>
            </a:xfrm>
            <a:custGeom>
              <a:avLst/>
              <a:gdLst>
                <a:gd name="textAreaLeft" fmla="*/ 160200 w 250560"/>
                <a:gd name="textAreaRight" fmla="*/ 250560 w 250560"/>
                <a:gd name="textAreaTop" fmla="*/ 6120 h 2233440"/>
                <a:gd name="textAreaBottom" fmla="*/ 2227320 h 22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"/>
                    <a:pt x="10800" y="194"/>
                  </a:cubicBezTo>
                  <a:lnTo>
                    <a:pt x="10800" y="11034"/>
                  </a:lnTo>
                  <a:cubicBezTo>
                    <a:pt x="10800" y="11131"/>
                    <a:pt x="5400" y="11228"/>
                    <a:pt x="0" y="11228"/>
                  </a:cubicBezTo>
                  <a:cubicBezTo>
                    <a:pt x="5400" y="11228"/>
                    <a:pt x="10800" y="11325"/>
                    <a:pt x="10800" y="11422"/>
                  </a:cubicBezTo>
                  <a:lnTo>
                    <a:pt x="10800" y="21406"/>
                  </a:lnTo>
                  <a:cubicBezTo>
                    <a:pt x="10800" y="21503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5" name="组合 42"/>
            <p:cNvGrpSpPr/>
            <p:nvPr/>
          </p:nvGrpSpPr>
          <p:grpSpPr>
            <a:xfrm>
              <a:off x="4788000" y="1938240"/>
              <a:ext cx="1800000" cy="1800360"/>
              <a:chOff x="4788000" y="1938240"/>
              <a:chExt cx="1800000" cy="1800360"/>
            </a:xfrm>
          </p:grpSpPr>
          <p:sp>
            <p:nvSpPr>
              <p:cNvPr id="1126" name="椭圆 36"/>
              <p:cNvSpPr/>
              <p:nvPr/>
            </p:nvSpPr>
            <p:spPr>
              <a:xfrm>
                <a:off x="4788000" y="1938240"/>
                <a:ext cx="1800000" cy="1800360"/>
              </a:xfrm>
              <a:prstGeom prst="ellipse">
                <a:avLst/>
              </a:prstGeom>
              <a:solidFill>
                <a:srgbClr val="ccecff"/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7" name="组合 37" descr=""/>
              <p:cNvPicPr/>
              <p:nvPr/>
            </p:nvPicPr>
            <p:blipFill>
              <a:blip r:embed="rId3"/>
              <a:stretch/>
            </p:blipFill>
            <p:spPr>
              <a:xfrm>
                <a:off x="5260680" y="2413800"/>
                <a:ext cx="859320" cy="85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8" name="组合 42"/>
            <p:cNvGrpSpPr/>
            <p:nvPr/>
          </p:nvGrpSpPr>
          <p:grpSpPr>
            <a:xfrm>
              <a:off x="6729480" y="1938240"/>
              <a:ext cx="1800000" cy="1800360"/>
              <a:chOff x="6729480" y="1938240"/>
              <a:chExt cx="1800000" cy="1800360"/>
            </a:xfrm>
          </p:grpSpPr>
          <p:sp>
            <p:nvSpPr>
              <p:cNvPr id="1129" name="椭圆 32"/>
              <p:cNvSpPr/>
              <p:nvPr/>
            </p:nvSpPr>
            <p:spPr>
              <a:xfrm>
                <a:off x="6729480" y="1938240"/>
                <a:ext cx="1800000" cy="1800360"/>
              </a:xfrm>
              <a:prstGeom prst="ellipse">
                <a:avLst/>
              </a:prstGeom>
              <a:solidFill>
                <a:srgbClr val="ccecff"/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0" name="组合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205400" y="2413800"/>
                <a:ext cx="853200" cy="85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Box 27"/>
          <p:cNvSpPr/>
          <p:nvPr/>
        </p:nvSpPr>
        <p:spPr>
          <a:xfrm>
            <a:off x="2556000" y="1487520"/>
            <a:ext cx="60166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每次总烙（    ）张饼，别让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　　      ），这样应该最省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13" descr="115"/>
          <p:cNvPicPr/>
          <p:nvPr/>
        </p:nvPicPr>
        <p:blipFill>
          <a:blip r:embed="rId1"/>
          <a:stretch/>
        </p:blipFill>
        <p:spPr>
          <a:xfrm>
            <a:off x="928800" y="1428840"/>
            <a:ext cx="1255680" cy="1322280"/>
          </a:xfrm>
          <a:prstGeom prst="rect">
            <a:avLst/>
          </a:prstGeom>
          <a:ln w="0">
            <a:noFill/>
          </a:ln>
        </p:spPr>
      </p:pic>
      <p:sp>
        <p:nvSpPr>
          <p:cNvPr id="1133" name="TextBox 6"/>
          <p:cNvSpPr/>
          <p:nvPr/>
        </p:nvSpPr>
        <p:spPr>
          <a:xfrm>
            <a:off x="4862520" y="144468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mbri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Box 7"/>
          <p:cNvSpPr/>
          <p:nvPr/>
        </p:nvSpPr>
        <p:spPr>
          <a:xfrm>
            <a:off x="3000240" y="2028960"/>
            <a:ext cx="144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有空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2"/>
          <p:cNvSpPr/>
          <p:nvPr/>
        </p:nvSpPr>
        <p:spPr>
          <a:xfrm>
            <a:off x="2069280" y="3408480"/>
            <a:ext cx="49654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哪种方法比较合理？如果要烙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张饼、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张饼、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张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呢？你发现了什么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3"/>
          <p:cNvSpPr/>
          <p:nvPr/>
        </p:nvSpPr>
        <p:spPr>
          <a:xfrm>
            <a:off x="3242520" y="5672160"/>
            <a:ext cx="237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小结：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烙饼的张数乘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，就是所用的最短时间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7" name=""/>
          <p:cNvGraphicFramePr/>
          <p:nvPr/>
        </p:nvGraphicFramePr>
        <p:xfrm>
          <a:off x="538200" y="785880"/>
          <a:ext cx="8105760" cy="4753080"/>
        </p:xfrm>
        <a:graphic>
          <a:graphicData uri="http://schemas.openxmlformats.org/drawingml/2006/table">
            <a:tbl>
              <a:tblPr/>
              <a:tblGrid>
                <a:gridCol w="1433520"/>
                <a:gridCol w="3048120"/>
                <a:gridCol w="942840"/>
                <a:gridCol w="2681280"/>
              </a:tblGrid>
              <a:tr h="840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饼数（张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（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）同时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（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）轮换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8" name="Text Box 94"/>
          <p:cNvSpPr/>
          <p:nvPr/>
        </p:nvSpPr>
        <p:spPr>
          <a:xfrm>
            <a:off x="2090880" y="993600"/>
            <a:ext cx="2519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mbria"/>
                <a:ea typeface="黑体"/>
              </a:rPr>
              <a:t>最省时的烙饼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95"/>
          <p:cNvSpPr/>
          <p:nvPr/>
        </p:nvSpPr>
        <p:spPr>
          <a:xfrm>
            <a:off x="5048280" y="809640"/>
            <a:ext cx="936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mbria"/>
                <a:ea typeface="黑体"/>
              </a:rPr>
              <a:t>烙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mbria"/>
                <a:ea typeface="黑体"/>
              </a:rPr>
              <a:t>次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96"/>
          <p:cNvSpPr/>
          <p:nvPr/>
        </p:nvSpPr>
        <p:spPr>
          <a:xfrm>
            <a:off x="6032520" y="1012680"/>
            <a:ext cx="2628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mbria"/>
                <a:ea typeface="黑体"/>
              </a:rPr>
              <a:t>所需最少时间（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Text Box 5"/>
          <p:cNvSpPr/>
          <p:nvPr/>
        </p:nvSpPr>
        <p:spPr>
          <a:xfrm>
            <a:off x="3291480" y="838080"/>
            <a:ext cx="2085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小红感冒了，吃完药后要赶快休息。她应如何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合理安排下面的事情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2" name=""/>
          <p:cNvGraphicFramePr/>
          <p:nvPr/>
        </p:nvGraphicFramePr>
        <p:xfrm>
          <a:off x="2052720" y="2139840"/>
          <a:ext cx="3876480" cy="2573280"/>
        </p:xfrm>
        <a:graphic>
          <a:graphicData uri="http://schemas.openxmlformats.org/drawingml/2006/table">
            <a:tbl>
              <a:tblPr/>
              <a:tblGrid>
                <a:gridCol w="2479320"/>
                <a:gridCol w="1397160"/>
              </a:tblGrid>
              <a:tr h="646200">
                <a:tc>
                  <a:txBody>
                    <a:bodyPr lIns="90000" rIns="36000" tIns="468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找杯子倒开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36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468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36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41160">
                <a:tc>
                  <a:txBody>
                    <a:bodyPr lIns="90000" rIns="36000" tIns="468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等开水变温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36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468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36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44760">
                <a:tc>
                  <a:txBody>
                    <a:bodyPr lIns="90000" rIns="36000" tIns="468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找感冒药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36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468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36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41160">
                <a:tc>
                  <a:txBody>
                    <a:bodyPr lIns="90000" rIns="36000" tIns="468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量体温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36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468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36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43" name="TextBox 13"/>
          <p:cNvSpPr/>
          <p:nvPr/>
        </p:nvSpPr>
        <p:spPr>
          <a:xfrm>
            <a:off x="642960" y="4856040"/>
            <a:ext cx="666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先找杯子倒开水　　等开水变温（同时找感冒药和量体温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右箭头 26"/>
          <p:cNvGrpSpPr/>
          <p:nvPr/>
        </p:nvGrpSpPr>
        <p:grpSpPr>
          <a:xfrm>
            <a:off x="2876400" y="4975200"/>
            <a:ext cx="689040" cy="249120"/>
            <a:chOff x="2876400" y="4975200"/>
            <a:chExt cx="689040" cy="249120"/>
          </a:xfrm>
        </p:grpSpPr>
        <p:pic>
          <p:nvPicPr>
            <p:cNvPr id="1145" name="右箭头 26" descr=""/>
            <p:cNvPicPr/>
            <p:nvPr/>
          </p:nvPicPr>
          <p:blipFill>
            <a:blip r:embed="rId1"/>
            <a:stretch/>
          </p:blipFill>
          <p:spPr>
            <a:xfrm>
              <a:off x="2876400" y="4975200"/>
              <a:ext cx="68904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6" name="文本框 19481"/>
            <p:cNvSpPr/>
            <p:nvPr/>
          </p:nvSpPr>
          <p:spPr>
            <a:xfrm>
              <a:off x="2939760" y="5046480"/>
              <a:ext cx="5367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TextBox 13"/>
          <p:cNvSpPr/>
          <p:nvPr/>
        </p:nvSpPr>
        <p:spPr>
          <a:xfrm>
            <a:off x="795240" y="5427720"/>
            <a:ext cx="666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１＋６＝７（分钟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9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5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2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4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7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8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9" name="Rectangle 64"/>
          <p:cNvSpPr/>
          <p:nvPr/>
        </p:nvSpPr>
        <p:spPr>
          <a:xfrm>
            <a:off x="530280" y="220680"/>
            <a:ext cx="26445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0" name=""/>
          <p:cNvGraphicFramePr/>
          <p:nvPr/>
        </p:nvGraphicFramePr>
        <p:xfrm>
          <a:off x="1117440" y="3070080"/>
          <a:ext cx="3600360" cy="2089080"/>
        </p:xfrm>
        <a:graphic>
          <a:graphicData uri="http://schemas.openxmlformats.org/drawingml/2006/table">
            <a:tbl>
              <a:tblPr/>
              <a:tblGrid>
                <a:gridCol w="1149480"/>
                <a:gridCol w="842760"/>
                <a:gridCol w="766800"/>
                <a:gridCol w="841320"/>
              </a:tblGrid>
              <a:tr h="52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宋体"/>
                        </a:rPr>
                        <a:t>小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宋体"/>
                        </a:rPr>
                        <a:t>爸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宋体"/>
                        </a:rPr>
                        <a:t>妈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宋体"/>
                        </a:rPr>
                        <a:t>第一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宋体"/>
                        </a:rPr>
                        <a:t>第二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宋体"/>
                        </a:rPr>
                        <a:t>第三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1" name="TextBox 10"/>
          <p:cNvSpPr/>
          <p:nvPr/>
        </p:nvSpPr>
        <p:spPr>
          <a:xfrm>
            <a:off x="531720" y="1241280"/>
            <a:ext cx="8282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种电脑小游戏，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局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，可以单人玩，也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以双人玩。小东和爸爸、妈妈一起玩，每人玩两局，至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多少分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7"/>
          <p:cNvSpPr/>
          <p:nvPr/>
        </p:nvSpPr>
        <p:spPr>
          <a:xfrm>
            <a:off x="2394000" y="3622680"/>
            <a:ext cx="57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8"/>
          <p:cNvSpPr/>
          <p:nvPr/>
        </p:nvSpPr>
        <p:spPr>
          <a:xfrm>
            <a:off x="3201840" y="3622680"/>
            <a:ext cx="56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Box 9"/>
          <p:cNvSpPr/>
          <p:nvPr/>
        </p:nvSpPr>
        <p:spPr>
          <a:xfrm>
            <a:off x="3983040" y="4127400"/>
            <a:ext cx="56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2394000" y="4127400"/>
            <a:ext cx="57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14"/>
          <p:cNvSpPr/>
          <p:nvPr/>
        </p:nvSpPr>
        <p:spPr>
          <a:xfrm>
            <a:off x="3193920" y="4643280"/>
            <a:ext cx="5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15"/>
          <p:cNvSpPr/>
          <p:nvPr/>
        </p:nvSpPr>
        <p:spPr>
          <a:xfrm>
            <a:off x="3983040" y="4643280"/>
            <a:ext cx="56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51" descr="119"/>
          <p:cNvPicPr/>
          <p:nvPr/>
        </p:nvPicPr>
        <p:blipFill>
          <a:blip r:embed="rId1"/>
          <a:stretch/>
        </p:blipFill>
        <p:spPr>
          <a:xfrm>
            <a:off x="5227560" y="2568600"/>
            <a:ext cx="3343320" cy="2160720"/>
          </a:xfrm>
          <a:prstGeom prst="rect">
            <a:avLst/>
          </a:prstGeom>
          <a:ln w="0">
            <a:noFill/>
          </a:ln>
        </p:spPr>
      </p:pic>
      <p:sp>
        <p:nvSpPr>
          <p:cNvPr id="1169" name="TextBox 41"/>
          <p:cNvSpPr/>
          <p:nvPr/>
        </p:nvSpPr>
        <p:spPr>
          <a:xfrm>
            <a:off x="1214280" y="5568840"/>
            <a:ext cx="4391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Cambria"/>
                <a:ea typeface="宋体"/>
              </a:rPr>
              <a:t>５</a:t>
            </a:r>
            <a:r>
              <a:rPr b="0" lang="en-US" sz="3000" spc="-1" strike="noStrike">
                <a:solidFill>
                  <a:srgbClr val="ff0000"/>
                </a:solidFill>
                <a:latin typeface="Cambria"/>
              </a:rPr>
              <a:t>×</a:t>
            </a:r>
            <a:r>
              <a:rPr b="0" lang="zh-CN" sz="3000" spc="-1" strike="noStrike">
                <a:solidFill>
                  <a:srgbClr val="ff0000"/>
                </a:solidFill>
                <a:latin typeface="Cambria"/>
                <a:ea typeface="宋体"/>
              </a:rPr>
              <a:t>３＝</a:t>
            </a:r>
            <a:r>
              <a:rPr b="0" lang="en-US" sz="3000" spc="-1" strike="noStrike">
                <a:solidFill>
                  <a:srgbClr val="ff0000"/>
                </a:solidFill>
                <a:latin typeface="Cambria"/>
              </a:rPr>
              <a:t>15</a:t>
            </a:r>
            <a:r>
              <a:rPr b="0" lang="zh-CN" sz="3000" spc="-1" strike="noStrike">
                <a:solidFill>
                  <a:srgbClr val="ff0000"/>
                </a:solidFill>
                <a:latin typeface="Cambria"/>
                <a:ea typeface="宋体"/>
              </a:rPr>
              <a:t>（分钟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7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7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1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2"/>
          <p:cNvSpPr/>
          <p:nvPr/>
        </p:nvSpPr>
        <p:spPr>
          <a:xfrm>
            <a:off x="353880" y="785880"/>
            <a:ext cx="84488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解决合理安排时间的问题需要明确以下内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完成一项工作要做哪些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每项事情各需要多少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合理安排工作的顺序，明白先做什么，后做什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么，哪些事情可以同时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解决烙饼问题时，怎样操作最节省时间，最佳方  案是每一次尽可能让锅里按要求放上最多的饼，这样既没有浪费资源，又节省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8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8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4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99"/>
          <p:cNvSpPr/>
          <p:nvPr/>
        </p:nvSpPr>
        <p:spPr>
          <a:xfrm>
            <a:off x="365040" y="733320"/>
            <a:ext cx="82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雨早晨起来是这样安排的：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刷牙、洗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淘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 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用电饭锅煮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 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背英语单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吃早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，结果用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才去上学。请你合理安排，使小雨起床后用最短的时间就能上学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1"/>
          <p:cNvSpPr/>
          <p:nvPr/>
        </p:nvSpPr>
        <p:spPr>
          <a:xfrm>
            <a:off x="1917720" y="3016080"/>
            <a:ext cx="47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案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文本框 99"/>
          <p:cNvSpPr/>
          <p:nvPr/>
        </p:nvSpPr>
        <p:spPr>
          <a:xfrm>
            <a:off x="279360" y="652320"/>
            <a:ext cx="860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想一想、填一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张饼烙两面，一面需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，烙一张需要（     ）分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妈妈用一个平底锅煎鱼，每次最多只能放两条鱼，煎一条需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（正、反两面各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），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条鱼至少需要（     ）分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煮一个鸡蛋需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，一口锅一次可以煮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鸡蛋，那么煮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鸡蛋至少要（      ）分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锅里每次最多只能烙两张饼，两面都要烙，每面烙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，要烙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张饼，最快（      ）分钟可以烙完，要烙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张饼，最快（      ）分钟可以烙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文本框 1"/>
          <p:cNvSpPr/>
          <p:nvPr/>
        </p:nvSpPr>
        <p:spPr>
          <a:xfrm>
            <a:off x="5952960" y="1228680"/>
            <a:ext cx="4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文本框 2"/>
          <p:cNvSpPr/>
          <p:nvPr/>
        </p:nvSpPr>
        <p:spPr>
          <a:xfrm>
            <a:off x="5075280" y="2144880"/>
            <a:ext cx="4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文本框 3"/>
          <p:cNvSpPr/>
          <p:nvPr/>
        </p:nvSpPr>
        <p:spPr>
          <a:xfrm>
            <a:off x="1327320" y="3073320"/>
            <a:ext cx="4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文本框 4"/>
          <p:cNvSpPr/>
          <p:nvPr/>
        </p:nvSpPr>
        <p:spPr>
          <a:xfrm>
            <a:off x="1052640" y="3983040"/>
            <a:ext cx="5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6"/>
          <p:cNvSpPr/>
          <p:nvPr/>
        </p:nvSpPr>
        <p:spPr>
          <a:xfrm>
            <a:off x="5945040" y="398304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3"/>
          <p:cNvSpPr/>
          <p:nvPr/>
        </p:nvSpPr>
        <p:spPr>
          <a:xfrm>
            <a:off x="371520" y="115920"/>
            <a:ext cx="2990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6" descr="116"/>
          <p:cNvPicPr/>
          <p:nvPr/>
        </p:nvPicPr>
        <p:blipFill>
          <a:blip r:embed="rId8"/>
          <a:stretch/>
        </p:blipFill>
        <p:spPr>
          <a:xfrm>
            <a:off x="179280" y="1197000"/>
            <a:ext cx="8390160" cy="432108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4"/>
          <p:cNvSpPr/>
          <p:nvPr/>
        </p:nvSpPr>
        <p:spPr>
          <a:xfrm>
            <a:off x="4437360" y="571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想一想，你平时沏茶之前都要做哪些准备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八边形 7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2"/>
          <p:cNvSpPr/>
          <p:nvPr/>
        </p:nvSpPr>
        <p:spPr>
          <a:xfrm>
            <a:off x="1866960" y="620640"/>
            <a:ext cx="518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们来看看小明沏茶都做了哪些事，分别用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长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Group 8"/>
          <p:cNvGrpSpPr/>
          <p:nvPr/>
        </p:nvGrpSpPr>
        <p:grpSpPr>
          <a:xfrm>
            <a:off x="3726360" y="4299120"/>
            <a:ext cx="4133520" cy="1199880"/>
            <a:chOff x="3726360" y="4299120"/>
            <a:chExt cx="4133520" cy="1199880"/>
          </a:xfrm>
        </p:grpSpPr>
        <p:pic>
          <p:nvPicPr>
            <p:cNvPr id="1015" name="Picture 9" descr="E:\2017秋上·黄倩\其他\人\蜜蜂.gif蜜蜂"/>
            <p:cNvPicPr/>
            <p:nvPr/>
          </p:nvPicPr>
          <p:blipFill>
            <a:blip r:embed="rId1"/>
            <a:stretch/>
          </p:blipFill>
          <p:spPr>
            <a:xfrm>
              <a:off x="7032600" y="4587480"/>
              <a:ext cx="827280" cy="9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Text Box 10"/>
            <p:cNvSpPr/>
            <p:nvPr/>
          </p:nvSpPr>
          <p:spPr>
            <a:xfrm>
              <a:off x="4298040" y="4370760"/>
              <a:ext cx="18954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怎样才能尽快让客人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喝上茶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AutoShape 11"/>
            <p:cNvSpPr/>
            <p:nvPr/>
          </p:nvSpPr>
          <p:spPr>
            <a:xfrm>
              <a:off x="3726360" y="4299120"/>
              <a:ext cx="3082680" cy="936720"/>
            </a:xfrm>
            <a:prstGeom prst="wedgeRoundRectCallout">
              <a:avLst>
                <a:gd name="adj1" fmla="val 56671"/>
                <a:gd name="adj2" fmla="val 42199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14"/>
          <p:cNvGrpSpPr/>
          <p:nvPr/>
        </p:nvGrpSpPr>
        <p:grpSpPr>
          <a:xfrm>
            <a:off x="1563840" y="2103480"/>
            <a:ext cx="5560920" cy="1558800"/>
            <a:chOff x="1563840" y="2103480"/>
            <a:chExt cx="5560920" cy="1558800"/>
          </a:xfrm>
        </p:grpSpPr>
        <p:sp>
          <p:nvSpPr>
            <p:cNvPr id="1019" name="圆角矩形 6"/>
            <p:cNvSpPr/>
            <p:nvPr/>
          </p:nvSpPr>
          <p:spPr>
            <a:xfrm>
              <a:off x="1563840" y="2103480"/>
              <a:ext cx="1224360" cy="648000"/>
            </a:xfrm>
            <a:prstGeom prst="roundRect">
              <a:avLst>
                <a:gd name="adj" fmla="val 16667"/>
              </a:avLst>
            </a:prstGeom>
            <a:solidFill>
              <a:srgbClr val="999999"/>
            </a:solidFill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烧水：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8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圆角矩形 7"/>
            <p:cNvSpPr/>
            <p:nvPr/>
          </p:nvSpPr>
          <p:spPr>
            <a:xfrm>
              <a:off x="3700080" y="2103480"/>
              <a:ext cx="1224360" cy="648000"/>
            </a:xfrm>
            <a:prstGeom prst="roundRect">
              <a:avLst>
                <a:gd name="adj" fmla="val 16667"/>
              </a:avLst>
            </a:prstGeom>
            <a:solidFill>
              <a:srgbClr val="999999"/>
            </a:solidFill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洗水壶：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圆角矩形 8"/>
            <p:cNvSpPr/>
            <p:nvPr/>
          </p:nvSpPr>
          <p:spPr>
            <a:xfrm>
              <a:off x="5900400" y="2103480"/>
              <a:ext cx="1224360" cy="648000"/>
            </a:xfrm>
            <a:prstGeom prst="roundRect">
              <a:avLst>
                <a:gd name="adj" fmla="val 16667"/>
              </a:avLst>
            </a:prstGeom>
            <a:solidFill>
              <a:srgbClr val="999999"/>
            </a:solidFill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洗茶杯：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圆角矩形 9"/>
            <p:cNvSpPr/>
            <p:nvPr/>
          </p:nvSpPr>
          <p:spPr>
            <a:xfrm>
              <a:off x="1563840" y="3014280"/>
              <a:ext cx="1224360" cy="648000"/>
            </a:xfrm>
            <a:prstGeom prst="roundRect">
              <a:avLst>
                <a:gd name="adj" fmla="val 16667"/>
              </a:avLst>
            </a:prstGeom>
            <a:solidFill>
              <a:srgbClr val="999999"/>
            </a:solidFill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接水：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圆角矩形 10"/>
            <p:cNvSpPr/>
            <p:nvPr/>
          </p:nvSpPr>
          <p:spPr>
            <a:xfrm>
              <a:off x="3700080" y="3014280"/>
              <a:ext cx="1224360" cy="648000"/>
            </a:xfrm>
            <a:prstGeom prst="roundRect">
              <a:avLst>
                <a:gd name="adj" fmla="val 16667"/>
              </a:avLst>
            </a:prstGeom>
            <a:solidFill>
              <a:srgbClr val="999999"/>
            </a:solidFill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找茶叶：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圆角矩形 12"/>
            <p:cNvSpPr/>
            <p:nvPr/>
          </p:nvSpPr>
          <p:spPr>
            <a:xfrm>
              <a:off x="5900400" y="3014280"/>
              <a:ext cx="1224360" cy="648000"/>
            </a:xfrm>
            <a:prstGeom prst="roundRect">
              <a:avLst>
                <a:gd name="adj" fmla="val 16667"/>
              </a:avLst>
            </a:prstGeom>
            <a:solidFill>
              <a:srgbClr val="999999"/>
            </a:solidFill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沏茶：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组合 17"/>
          <p:cNvGrpSpPr/>
          <p:nvPr/>
        </p:nvGrpSpPr>
        <p:grpSpPr>
          <a:xfrm>
            <a:off x="260280" y="730080"/>
            <a:ext cx="1884240" cy="459720"/>
            <a:chOff x="260280" y="730080"/>
            <a:chExt cx="1884240" cy="459720"/>
          </a:xfrm>
        </p:grpSpPr>
        <p:sp>
          <p:nvSpPr>
            <p:cNvPr id="1026" name="TextBox 3"/>
            <p:cNvSpPr/>
            <p:nvPr/>
          </p:nvSpPr>
          <p:spPr>
            <a:xfrm>
              <a:off x="364680" y="730080"/>
              <a:ext cx="177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缺角矩形 19"/>
            <p:cNvSpPr/>
            <p:nvPr/>
          </p:nvSpPr>
          <p:spPr>
            <a:xfrm>
              <a:off x="260280" y="85068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文本框 20"/>
          <p:cNvSpPr/>
          <p:nvPr/>
        </p:nvSpPr>
        <p:spPr>
          <a:xfrm>
            <a:off x="552600" y="1136520"/>
            <a:ext cx="83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确帮妈妈烧水沏茶要做几件事：烧水、洗水壶、洗茶杯、接水、找茶叶、沏茶，做这些事可以顺序做，有的也可以同时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23"/>
          <p:cNvGrpSpPr/>
          <p:nvPr/>
        </p:nvGrpSpPr>
        <p:grpSpPr>
          <a:xfrm>
            <a:off x="260280" y="3252960"/>
            <a:ext cx="8272080" cy="1116360"/>
            <a:chOff x="260280" y="3252960"/>
            <a:chExt cx="8272080" cy="1116360"/>
          </a:xfrm>
        </p:grpSpPr>
        <p:grpSp>
          <p:nvGrpSpPr>
            <p:cNvPr id="1030" name="组合 38"/>
            <p:cNvGrpSpPr/>
            <p:nvPr/>
          </p:nvGrpSpPr>
          <p:grpSpPr>
            <a:xfrm>
              <a:off x="260280" y="3252960"/>
              <a:ext cx="2147760" cy="459720"/>
              <a:chOff x="260280" y="3252960"/>
              <a:chExt cx="2147760" cy="459720"/>
            </a:xfrm>
          </p:grpSpPr>
          <p:sp>
            <p:nvSpPr>
              <p:cNvPr id="1031" name="TextBox 3"/>
              <p:cNvSpPr/>
              <p:nvPr/>
            </p:nvSpPr>
            <p:spPr>
              <a:xfrm>
                <a:off x="364680" y="3252960"/>
                <a:ext cx="204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00b0f0"/>
                    </a:solidFill>
                    <a:latin typeface="Arial"/>
                    <a:ea typeface="宋体"/>
                  </a:rPr>
                  <a:t>解法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缺角矩形 40"/>
              <p:cNvSpPr/>
              <p:nvPr/>
            </p:nvSpPr>
            <p:spPr>
              <a:xfrm>
                <a:off x="260280" y="3373560"/>
                <a:ext cx="215640" cy="215640"/>
              </a:xfrm>
              <a:custGeom>
                <a:avLst/>
                <a:gdLst>
                  <a:gd name="textAreaLeft" fmla="*/ 25200 w 215640"/>
                  <a:gd name="textAreaRight" fmla="*/ 190440 w 215640"/>
                  <a:gd name="textAreaTop" fmla="*/ 25200 h 215640"/>
                  <a:gd name="textAreaBottom" fmla="*/ 190440 h 21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18000" y="21600"/>
                    </a:lnTo>
                    <a:arcTo wR="3600" hR="3600" stAng="10800000" swAng="5400000"/>
                    <a:lnTo>
                      <a:pt x="2160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文本框 22"/>
            <p:cNvSpPr/>
            <p:nvPr/>
          </p:nvSpPr>
          <p:spPr>
            <a:xfrm>
              <a:off x="630720" y="3726720"/>
              <a:ext cx="790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要想让客人尽快喝到茶，能同时做的事尽量同时做，这样才能节省时间。沏茶前必须烧水，而烧水前必须做的是洗水壶和接水；烧水需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钟，在等待水开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钟里可以完成洗茶杯和找茶叶这两件事；水开后再沏茶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组合 32"/>
          <p:cNvGrpSpPr/>
          <p:nvPr/>
        </p:nvGrpSpPr>
        <p:grpSpPr>
          <a:xfrm>
            <a:off x="5003640" y="2925720"/>
            <a:ext cx="1366920" cy="2448000"/>
            <a:chOff x="5003640" y="2925720"/>
            <a:chExt cx="1366920" cy="2448000"/>
          </a:xfrm>
        </p:grpSpPr>
        <p:sp>
          <p:nvSpPr>
            <p:cNvPr id="1035" name="矩形 16"/>
            <p:cNvSpPr/>
            <p:nvPr/>
          </p:nvSpPr>
          <p:spPr>
            <a:xfrm>
              <a:off x="5003640" y="3357360"/>
              <a:ext cx="136692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Cambria"/>
                  <a:ea typeface="宋体"/>
                </a:rPr>
                <a:t>洗茶杯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21"/>
            <p:cNvSpPr/>
            <p:nvPr/>
          </p:nvSpPr>
          <p:spPr>
            <a:xfrm>
              <a:off x="5171760" y="292572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宋体"/>
                </a:rPr>
                <a:t>2</a:t>
              </a:r>
              <a:r>
                <a:rPr b="1" lang="zh-CN" sz="2000" spc="-1" strike="noStrike">
                  <a:solidFill>
                    <a:srgbClr val="0070c0"/>
                  </a:solidFill>
                  <a:latin typeface="宋体"/>
                  <a:ea typeface="宋体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矩形 15"/>
            <p:cNvSpPr/>
            <p:nvPr/>
          </p:nvSpPr>
          <p:spPr>
            <a:xfrm>
              <a:off x="5003640" y="4653000"/>
              <a:ext cx="136692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Cambria"/>
                  <a:ea typeface="宋体"/>
                </a:rPr>
                <a:t>找茶叶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Box 22"/>
            <p:cNvSpPr/>
            <p:nvPr/>
          </p:nvSpPr>
          <p:spPr>
            <a:xfrm>
              <a:off x="5190840" y="422100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宋体"/>
                </a:rPr>
                <a:t>1</a:t>
              </a:r>
              <a:r>
                <a:rPr b="1" lang="zh-CN" sz="2000" spc="-1" strike="noStrike">
                  <a:solidFill>
                    <a:srgbClr val="0070c0"/>
                  </a:solidFill>
                  <a:latin typeface="宋体"/>
                  <a:ea typeface="宋体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Text Box 16"/>
          <p:cNvSpPr/>
          <p:nvPr/>
        </p:nvSpPr>
        <p:spPr>
          <a:xfrm>
            <a:off x="712800" y="4073400"/>
            <a:ext cx="3498840" cy="64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=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11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（分钟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组合 11"/>
          <p:cNvGrpSpPr/>
          <p:nvPr/>
        </p:nvGrpSpPr>
        <p:grpSpPr>
          <a:xfrm>
            <a:off x="1546200" y="1596960"/>
            <a:ext cx="1886040" cy="1184400"/>
            <a:chOff x="1546200" y="1596960"/>
            <a:chExt cx="1886040" cy="1184400"/>
          </a:xfrm>
        </p:grpSpPr>
        <p:sp>
          <p:nvSpPr>
            <p:cNvPr id="1041" name="矩形 24"/>
            <p:cNvSpPr/>
            <p:nvPr/>
          </p:nvSpPr>
          <p:spPr>
            <a:xfrm>
              <a:off x="1546200" y="2060640"/>
              <a:ext cx="136764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洗水壶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AutoShape 29"/>
            <p:cNvSpPr/>
            <p:nvPr/>
          </p:nvSpPr>
          <p:spPr>
            <a:xfrm>
              <a:off x="3048480" y="2320920"/>
              <a:ext cx="383760" cy="200160"/>
            </a:xfrm>
            <a:prstGeom prst="rightArrow">
              <a:avLst>
                <a:gd name="adj1" fmla="val 46741"/>
                <a:gd name="adj2" fmla="val 65702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216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矩形 9"/>
            <p:cNvSpPr/>
            <p:nvPr/>
          </p:nvSpPr>
          <p:spPr>
            <a:xfrm>
              <a:off x="1647720" y="1596960"/>
              <a:ext cx="113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宋体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组合 12"/>
          <p:cNvGrpSpPr/>
          <p:nvPr/>
        </p:nvGrpSpPr>
        <p:grpSpPr>
          <a:xfrm>
            <a:off x="3457440" y="1596960"/>
            <a:ext cx="1563840" cy="1184400"/>
            <a:chOff x="3457440" y="1596960"/>
            <a:chExt cx="1563840" cy="1184400"/>
          </a:xfrm>
        </p:grpSpPr>
        <p:sp>
          <p:nvSpPr>
            <p:cNvPr id="1045" name="矩形 25"/>
            <p:cNvSpPr/>
            <p:nvPr/>
          </p:nvSpPr>
          <p:spPr>
            <a:xfrm>
              <a:off x="3566880" y="2060640"/>
              <a:ext cx="93564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接水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29"/>
            <p:cNvSpPr/>
            <p:nvPr/>
          </p:nvSpPr>
          <p:spPr>
            <a:xfrm>
              <a:off x="4637520" y="2320920"/>
              <a:ext cx="383760" cy="200160"/>
            </a:xfrm>
            <a:prstGeom prst="rightArrow">
              <a:avLst>
                <a:gd name="adj1" fmla="val 46741"/>
                <a:gd name="adj2" fmla="val 65702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216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矩形 37"/>
            <p:cNvSpPr/>
            <p:nvPr/>
          </p:nvSpPr>
          <p:spPr>
            <a:xfrm>
              <a:off x="3457440" y="1596960"/>
              <a:ext cx="11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宋体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组合 13"/>
          <p:cNvGrpSpPr/>
          <p:nvPr/>
        </p:nvGrpSpPr>
        <p:grpSpPr>
          <a:xfrm>
            <a:off x="5067360" y="1596960"/>
            <a:ext cx="1542960" cy="1184400"/>
            <a:chOff x="5067360" y="1596960"/>
            <a:chExt cx="1542960" cy="1184400"/>
          </a:xfrm>
        </p:grpSpPr>
        <p:sp>
          <p:nvSpPr>
            <p:cNvPr id="1049" name="矩形 28"/>
            <p:cNvSpPr/>
            <p:nvPr/>
          </p:nvSpPr>
          <p:spPr>
            <a:xfrm>
              <a:off x="5155920" y="2060640"/>
              <a:ext cx="93564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烧水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AutoShape 29"/>
            <p:cNvSpPr/>
            <p:nvPr/>
          </p:nvSpPr>
          <p:spPr>
            <a:xfrm>
              <a:off x="6226200" y="2320920"/>
              <a:ext cx="384120" cy="200160"/>
            </a:xfrm>
            <a:prstGeom prst="rightArrow">
              <a:avLst>
                <a:gd name="adj1" fmla="val 46741"/>
                <a:gd name="adj2" fmla="val 65763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216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矩形 38"/>
            <p:cNvSpPr/>
            <p:nvPr/>
          </p:nvSpPr>
          <p:spPr>
            <a:xfrm>
              <a:off x="5067360" y="1596960"/>
              <a:ext cx="113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Arial"/>
                </a:rPr>
                <a:t>8</a:t>
              </a: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宋体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组合 14"/>
          <p:cNvGrpSpPr/>
          <p:nvPr/>
        </p:nvGrpSpPr>
        <p:grpSpPr>
          <a:xfrm>
            <a:off x="6610320" y="1596960"/>
            <a:ext cx="1139760" cy="1184400"/>
            <a:chOff x="6610320" y="1596960"/>
            <a:chExt cx="1139760" cy="1184400"/>
          </a:xfrm>
        </p:grpSpPr>
        <p:sp>
          <p:nvSpPr>
            <p:cNvPr id="1053" name="矩形 28"/>
            <p:cNvSpPr/>
            <p:nvPr/>
          </p:nvSpPr>
          <p:spPr>
            <a:xfrm>
              <a:off x="6708600" y="2060640"/>
              <a:ext cx="93564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沏茶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矩形 39"/>
            <p:cNvSpPr/>
            <p:nvPr/>
          </p:nvSpPr>
          <p:spPr>
            <a:xfrm>
              <a:off x="6610320" y="1596960"/>
              <a:ext cx="113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宋体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TextBox 22"/>
          <p:cNvSpPr/>
          <p:nvPr/>
        </p:nvSpPr>
        <p:spPr>
          <a:xfrm>
            <a:off x="4357800" y="3292560"/>
            <a:ext cx="72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宋体"/>
                <a:ea typeface="宋体"/>
              </a:rPr>
              <a:t>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宋体"/>
                <a:ea typeface="宋体"/>
              </a:rPr>
              <a:t>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宋体"/>
                <a:ea typeface="宋体"/>
              </a:rPr>
              <a:t>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宋体"/>
                <a:ea typeface="宋体"/>
              </a:rPr>
              <a:t>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宋体"/>
                <a:ea typeface="宋体"/>
              </a:rPr>
              <a:t>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2"/>
          <p:cNvSpPr/>
          <p:nvPr/>
        </p:nvSpPr>
        <p:spPr>
          <a:xfrm>
            <a:off x="2442600" y="763560"/>
            <a:ext cx="33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用流程图记录下做事情的过程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3" descr="101"/>
          <p:cNvPicPr/>
          <p:nvPr/>
        </p:nvPicPr>
        <p:blipFill>
          <a:blip r:embed="rId1"/>
          <a:stretch/>
        </p:blipFill>
        <p:spPr>
          <a:xfrm>
            <a:off x="1044720" y="955800"/>
            <a:ext cx="6846840" cy="3241440"/>
          </a:xfrm>
          <a:prstGeom prst="rect">
            <a:avLst/>
          </a:prstGeom>
          <a:ln w="0">
            <a:noFill/>
          </a:ln>
        </p:spPr>
      </p:pic>
      <p:sp>
        <p:nvSpPr>
          <p:cNvPr id="1058" name="Text Box 4"/>
          <p:cNvSpPr/>
          <p:nvPr/>
        </p:nvSpPr>
        <p:spPr>
          <a:xfrm>
            <a:off x="1627920" y="4633920"/>
            <a:ext cx="20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怎样才能尽快吃上饼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八边形 7"/>
          <p:cNvSpPr/>
          <p:nvPr/>
        </p:nvSpPr>
        <p:spPr>
          <a:xfrm>
            <a:off x="279360" y="83520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组合 1"/>
          <p:cNvGrpSpPr/>
          <p:nvPr/>
        </p:nvGrpSpPr>
        <p:grpSpPr>
          <a:xfrm>
            <a:off x="174600" y="768240"/>
            <a:ext cx="1883880" cy="459720"/>
            <a:chOff x="174600" y="768240"/>
            <a:chExt cx="1883880" cy="459720"/>
          </a:xfrm>
        </p:grpSpPr>
        <p:sp>
          <p:nvSpPr>
            <p:cNvPr id="1061" name="TextBox 3"/>
            <p:cNvSpPr/>
            <p:nvPr/>
          </p:nvSpPr>
          <p:spPr>
            <a:xfrm>
              <a:off x="279000" y="76824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缺角矩形 37"/>
            <p:cNvSpPr/>
            <p:nvPr/>
          </p:nvSpPr>
          <p:spPr>
            <a:xfrm>
              <a:off x="174600" y="88884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文本框 4"/>
          <p:cNvSpPr/>
          <p:nvPr/>
        </p:nvSpPr>
        <p:spPr>
          <a:xfrm>
            <a:off x="449280" y="1289160"/>
            <a:ext cx="82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妈妈给全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每人烙一张饼，锅里面一次只能烙两张，如果每张饼两面都要烙，且每面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，求怎样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张饼花的时间最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组合 6"/>
          <p:cNvGrpSpPr/>
          <p:nvPr/>
        </p:nvGrpSpPr>
        <p:grpSpPr>
          <a:xfrm>
            <a:off x="179280" y="3200400"/>
            <a:ext cx="5633640" cy="1796760"/>
            <a:chOff x="179280" y="3200400"/>
            <a:chExt cx="5633640" cy="1796760"/>
          </a:xfrm>
        </p:grpSpPr>
        <p:grpSp>
          <p:nvGrpSpPr>
            <p:cNvPr id="1065" name="Group 34"/>
            <p:cNvGrpSpPr/>
            <p:nvPr/>
          </p:nvGrpSpPr>
          <p:grpSpPr>
            <a:xfrm>
              <a:off x="726120" y="3754080"/>
              <a:ext cx="5086800" cy="1243080"/>
              <a:chOff x="726120" y="3754080"/>
              <a:chExt cx="5086800" cy="1243080"/>
            </a:xfrm>
          </p:grpSpPr>
          <p:pic>
            <p:nvPicPr>
              <p:cNvPr id="1066" name="Picture 32" descr="E:\2017秋上·黄倩\其他\人\海豚.jpg海豚"/>
              <p:cNvPicPr/>
              <p:nvPr/>
            </p:nvPicPr>
            <p:blipFill>
              <a:blip r:embed="rId1"/>
              <a:stretch/>
            </p:blipFill>
            <p:spPr>
              <a:xfrm>
                <a:off x="726120" y="3754080"/>
                <a:ext cx="993960" cy="124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AutoShape 27"/>
              <p:cNvSpPr/>
              <p:nvPr/>
            </p:nvSpPr>
            <p:spPr>
              <a:xfrm>
                <a:off x="2234160" y="3882960"/>
                <a:ext cx="3578760" cy="1012680"/>
              </a:xfrm>
              <a:prstGeom prst="wedgeRoundRectCallout">
                <a:avLst>
                  <a:gd name="adj1" fmla="val -57768"/>
                  <a:gd name="adj2" fmla="val -15606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可以从简单的想起，烙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张饼需要几分钟？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张饼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张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组合 38"/>
            <p:cNvGrpSpPr/>
            <p:nvPr/>
          </p:nvGrpSpPr>
          <p:grpSpPr>
            <a:xfrm>
              <a:off x="179280" y="3200400"/>
              <a:ext cx="2148120" cy="459720"/>
              <a:chOff x="179280" y="3200400"/>
              <a:chExt cx="2148120" cy="459720"/>
            </a:xfrm>
          </p:grpSpPr>
          <p:sp>
            <p:nvSpPr>
              <p:cNvPr id="1069" name="TextBox 3"/>
              <p:cNvSpPr/>
              <p:nvPr/>
            </p:nvSpPr>
            <p:spPr>
              <a:xfrm>
                <a:off x="283680" y="3200400"/>
                <a:ext cx="204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00b0f0"/>
                    </a:solidFill>
                    <a:latin typeface="Arial"/>
                    <a:ea typeface="宋体"/>
                  </a:rPr>
                  <a:t>解法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缺角矩形 40"/>
              <p:cNvSpPr/>
              <p:nvPr/>
            </p:nvSpPr>
            <p:spPr>
              <a:xfrm>
                <a:off x="179280" y="3324600"/>
                <a:ext cx="215640" cy="222120"/>
              </a:xfrm>
              <a:custGeom>
                <a:avLst/>
                <a:gdLst>
                  <a:gd name="textAreaLeft" fmla="*/ 25200 w 215640"/>
                  <a:gd name="textAreaRight" fmla="*/ 190440 w 215640"/>
                  <a:gd name="textAreaTop" fmla="*/ 25200 h 222120"/>
                  <a:gd name="textAreaBottom" fmla="*/ 196920 h 222120"/>
                </a:gdLst>
                <a:ahLst/>
                <a:rect l="textAreaLeft" t="textAreaTop" r="textAreaRight" b="textAreaBottom"/>
                <a:pathLst>
                  <a:path w="21600" h="22248">
                    <a:moveTo>
                      <a:pt x="3600" y="0"/>
                    </a:moveTo>
                    <a:arcTo wR="3600" hR="3600" stAng="0" swAng="5400000"/>
                    <a:lnTo>
                      <a:pt x="0" y="18648"/>
                    </a:lnTo>
                    <a:arcTo wR="3600" hR="3600" stAng="16200000" swAng="5400000"/>
                    <a:lnTo>
                      <a:pt x="18000" y="22248"/>
                    </a:lnTo>
                    <a:arcTo wR="3600" hR="3600" stAng="10800000" swAng="5400000"/>
                    <a:lnTo>
                      <a:pt x="2160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TextBox 4"/>
          <p:cNvSpPr/>
          <p:nvPr/>
        </p:nvSpPr>
        <p:spPr>
          <a:xfrm>
            <a:off x="1096920" y="642960"/>
            <a:ext cx="2359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70c0"/>
                </a:solidFill>
                <a:latin typeface="Arial"/>
                <a:ea typeface="宋体"/>
              </a:rPr>
              <a:t>烙</a:t>
            </a:r>
            <a:r>
              <a:rPr b="0" lang="en-US" sz="3000" spc="-1" strike="noStrike">
                <a:solidFill>
                  <a:srgbClr val="0070c0"/>
                </a:solidFill>
                <a:latin typeface="Cambria"/>
              </a:rPr>
              <a:t>1</a:t>
            </a:r>
            <a:r>
              <a:rPr b="0" lang="zh-CN" sz="3000" spc="-1" strike="noStrike">
                <a:solidFill>
                  <a:srgbClr val="0070c0"/>
                </a:solidFill>
                <a:latin typeface="Arial"/>
                <a:ea typeface="宋体"/>
              </a:rPr>
              <a:t>张饼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组合 29"/>
          <p:cNvGrpSpPr/>
          <p:nvPr/>
        </p:nvGrpSpPr>
        <p:grpSpPr>
          <a:xfrm>
            <a:off x="2227320" y="1650960"/>
            <a:ext cx="1800000" cy="2366280"/>
            <a:chOff x="2227320" y="1650960"/>
            <a:chExt cx="1800000" cy="2366280"/>
          </a:xfrm>
        </p:grpSpPr>
        <p:grpSp>
          <p:nvGrpSpPr>
            <p:cNvPr id="1073" name="组合 42"/>
            <p:cNvGrpSpPr/>
            <p:nvPr/>
          </p:nvGrpSpPr>
          <p:grpSpPr>
            <a:xfrm>
              <a:off x="2227320" y="1650960"/>
              <a:ext cx="1800000" cy="1800360"/>
              <a:chOff x="2227320" y="1650960"/>
              <a:chExt cx="1800000" cy="1800360"/>
            </a:xfrm>
          </p:grpSpPr>
          <p:sp>
            <p:nvSpPr>
              <p:cNvPr id="1074" name="椭圆 8"/>
              <p:cNvSpPr/>
              <p:nvPr/>
            </p:nvSpPr>
            <p:spPr>
              <a:xfrm>
                <a:off x="2227320" y="1650960"/>
                <a:ext cx="1800000" cy="1800360"/>
              </a:xfrm>
              <a:prstGeom prst="ellipse">
                <a:avLst/>
              </a:prstGeom>
              <a:solidFill>
                <a:srgbClr val="ccecff"/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5" name="组合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2700360" y="2127240"/>
                <a:ext cx="859320" cy="853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6" name="TextBox 7"/>
            <p:cNvSpPr/>
            <p:nvPr/>
          </p:nvSpPr>
          <p:spPr>
            <a:xfrm>
              <a:off x="2357280" y="3594240"/>
              <a:ext cx="1512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mbria"/>
                  <a:ea typeface="宋体"/>
                </a:rPr>
                <a:t>第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Cambria"/>
                  <a:ea typeface="宋体"/>
                </a:rPr>
                <a:t>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组合 30"/>
          <p:cNvGrpSpPr/>
          <p:nvPr/>
        </p:nvGrpSpPr>
        <p:grpSpPr>
          <a:xfrm>
            <a:off x="4986360" y="1650960"/>
            <a:ext cx="1800360" cy="2366280"/>
            <a:chOff x="4986360" y="1650960"/>
            <a:chExt cx="1800360" cy="2366280"/>
          </a:xfrm>
        </p:grpSpPr>
        <p:grpSp>
          <p:nvGrpSpPr>
            <p:cNvPr id="1078" name="组合 46"/>
            <p:cNvGrpSpPr/>
            <p:nvPr/>
          </p:nvGrpSpPr>
          <p:grpSpPr>
            <a:xfrm>
              <a:off x="4986360" y="1650960"/>
              <a:ext cx="1800360" cy="1800360"/>
              <a:chOff x="4986360" y="1650960"/>
              <a:chExt cx="1800360" cy="1800360"/>
            </a:xfrm>
          </p:grpSpPr>
          <p:sp>
            <p:nvSpPr>
              <p:cNvPr id="1079" name="椭圆 15"/>
              <p:cNvSpPr/>
              <p:nvPr/>
            </p:nvSpPr>
            <p:spPr>
              <a:xfrm>
                <a:off x="4986360" y="1650960"/>
                <a:ext cx="1800360" cy="1800360"/>
              </a:xfrm>
              <a:prstGeom prst="ellipse">
                <a:avLst/>
              </a:prstGeom>
              <a:solidFill>
                <a:srgbClr val="ccecff"/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0" name="组合 34" descr=""/>
              <p:cNvPicPr/>
              <p:nvPr/>
            </p:nvPicPr>
            <p:blipFill>
              <a:blip r:embed="rId2"/>
              <a:stretch/>
            </p:blipFill>
            <p:spPr>
              <a:xfrm>
                <a:off x="5461920" y="2127240"/>
                <a:ext cx="859680" cy="853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1" name="TextBox 14"/>
            <p:cNvSpPr/>
            <p:nvPr/>
          </p:nvSpPr>
          <p:spPr>
            <a:xfrm>
              <a:off x="5126040" y="3594240"/>
              <a:ext cx="1511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mbria"/>
                  <a:ea typeface="宋体"/>
                </a:rPr>
                <a:t>第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Cambria"/>
                  <a:ea typeface="宋体"/>
                </a:rPr>
                <a:t>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TextBox 19"/>
          <p:cNvSpPr/>
          <p:nvPr/>
        </p:nvSpPr>
        <p:spPr>
          <a:xfrm>
            <a:off x="3402000" y="4443480"/>
            <a:ext cx="3813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Cambria"/>
                <a:ea typeface="宋体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Cambria"/>
                <a:ea typeface="宋体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Cambria"/>
                <a:ea typeface="宋体"/>
              </a:rPr>
              <a:t>（分钟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35"/>
          <p:cNvSpPr/>
          <p:nvPr/>
        </p:nvSpPr>
        <p:spPr>
          <a:xfrm>
            <a:off x="4014720" y="735120"/>
            <a:ext cx="828720" cy="828720"/>
          </a:xfrm>
          <a:prstGeom prst="ellipse">
            <a:avLst/>
          </a:prstGeom>
          <a:noFill/>
          <a:ln w="1908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Box 4"/>
          <p:cNvSpPr/>
          <p:nvPr/>
        </p:nvSpPr>
        <p:spPr>
          <a:xfrm>
            <a:off x="826920" y="785880"/>
            <a:ext cx="194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70c0"/>
                </a:solidFill>
                <a:latin typeface="Arial"/>
                <a:ea typeface="宋体"/>
              </a:rPr>
              <a:t>烙</a:t>
            </a:r>
            <a:r>
              <a:rPr b="0" lang="en-US" sz="3000" spc="-1" strike="noStrike">
                <a:solidFill>
                  <a:srgbClr val="0070c0"/>
                </a:solidFill>
                <a:latin typeface="Cambria"/>
              </a:rPr>
              <a:t>2</a:t>
            </a:r>
            <a:r>
              <a:rPr b="0" lang="zh-CN" sz="3000" spc="-1" strike="noStrike">
                <a:solidFill>
                  <a:srgbClr val="0070c0"/>
                </a:solidFill>
                <a:latin typeface="Arial"/>
                <a:ea typeface="宋体"/>
              </a:rPr>
              <a:t>张饼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5"/>
          <p:cNvSpPr/>
          <p:nvPr/>
        </p:nvSpPr>
        <p:spPr>
          <a:xfrm>
            <a:off x="3321000" y="4746600"/>
            <a:ext cx="3608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Cambria"/>
                <a:ea typeface="宋体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Cambria"/>
                <a:ea typeface="宋体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Cambria"/>
                <a:ea typeface="宋体"/>
              </a:rPr>
              <a:t>（分钟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20"/>
          <p:cNvSpPr/>
          <p:nvPr/>
        </p:nvSpPr>
        <p:spPr>
          <a:xfrm>
            <a:off x="3276720" y="880920"/>
            <a:ext cx="863640" cy="863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21"/>
          <p:cNvSpPr/>
          <p:nvPr/>
        </p:nvSpPr>
        <p:spPr>
          <a:xfrm>
            <a:off x="4716360" y="876240"/>
            <a:ext cx="863640" cy="863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组合 29"/>
          <p:cNvGrpSpPr/>
          <p:nvPr/>
        </p:nvGrpSpPr>
        <p:grpSpPr>
          <a:xfrm>
            <a:off x="2309760" y="1936800"/>
            <a:ext cx="1798560" cy="2366280"/>
            <a:chOff x="2309760" y="1936800"/>
            <a:chExt cx="1798560" cy="2366280"/>
          </a:xfrm>
        </p:grpSpPr>
        <p:grpSp>
          <p:nvGrpSpPr>
            <p:cNvPr id="1089" name="组合 42"/>
            <p:cNvGrpSpPr/>
            <p:nvPr/>
          </p:nvGrpSpPr>
          <p:grpSpPr>
            <a:xfrm>
              <a:off x="2309760" y="1936800"/>
              <a:ext cx="1798560" cy="1800360"/>
              <a:chOff x="2309760" y="1936800"/>
              <a:chExt cx="1798560" cy="1800360"/>
            </a:xfrm>
          </p:grpSpPr>
          <p:sp>
            <p:nvSpPr>
              <p:cNvPr id="1090" name="椭圆 11"/>
              <p:cNvSpPr/>
              <p:nvPr/>
            </p:nvSpPr>
            <p:spPr>
              <a:xfrm>
                <a:off x="2309760" y="1936800"/>
                <a:ext cx="1798560" cy="1800360"/>
              </a:xfrm>
              <a:prstGeom prst="ellipse">
                <a:avLst/>
              </a:prstGeom>
              <a:solidFill>
                <a:srgbClr val="ccecff"/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1" name="组合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2352960" y="2408040"/>
                <a:ext cx="1719000" cy="85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2" name="TextBox 10"/>
            <p:cNvSpPr/>
            <p:nvPr/>
          </p:nvSpPr>
          <p:spPr>
            <a:xfrm>
              <a:off x="2439720" y="3880080"/>
              <a:ext cx="1511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mbria"/>
                  <a:ea typeface="宋体"/>
                </a:rPr>
                <a:t>第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Cambria"/>
                  <a:ea typeface="宋体"/>
                </a:rPr>
                <a:t>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组合 29"/>
          <p:cNvGrpSpPr/>
          <p:nvPr/>
        </p:nvGrpSpPr>
        <p:grpSpPr>
          <a:xfrm>
            <a:off x="4788000" y="1936800"/>
            <a:ext cx="1800000" cy="2366280"/>
            <a:chOff x="4788000" y="1936800"/>
            <a:chExt cx="1800000" cy="2366280"/>
          </a:xfrm>
        </p:grpSpPr>
        <p:grpSp>
          <p:nvGrpSpPr>
            <p:cNvPr id="1094" name="组合 42"/>
            <p:cNvGrpSpPr/>
            <p:nvPr/>
          </p:nvGrpSpPr>
          <p:grpSpPr>
            <a:xfrm>
              <a:off x="4788000" y="1936800"/>
              <a:ext cx="1800000" cy="1800360"/>
              <a:chOff x="4788000" y="1936800"/>
              <a:chExt cx="1800000" cy="1800360"/>
            </a:xfrm>
          </p:grpSpPr>
          <p:sp>
            <p:nvSpPr>
              <p:cNvPr id="1095" name="椭圆 20"/>
              <p:cNvSpPr/>
              <p:nvPr/>
            </p:nvSpPr>
            <p:spPr>
              <a:xfrm>
                <a:off x="4788000" y="1936800"/>
                <a:ext cx="1800000" cy="1800360"/>
              </a:xfrm>
              <a:prstGeom prst="ellipse">
                <a:avLst/>
              </a:prstGeom>
              <a:solidFill>
                <a:srgbClr val="ccecff"/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6" name="组合 34" descr=""/>
              <p:cNvPicPr/>
              <p:nvPr/>
            </p:nvPicPr>
            <p:blipFill>
              <a:blip r:embed="rId2"/>
              <a:stretch/>
            </p:blipFill>
            <p:spPr>
              <a:xfrm>
                <a:off x="4834080" y="2408040"/>
                <a:ext cx="1719000" cy="85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7" name="TextBox 19"/>
            <p:cNvSpPr/>
            <p:nvPr/>
          </p:nvSpPr>
          <p:spPr>
            <a:xfrm>
              <a:off x="4917960" y="3880080"/>
              <a:ext cx="1512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mbria"/>
                  <a:ea typeface="宋体"/>
                </a:rPr>
                <a:t>第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Cambria"/>
                  <a:ea typeface="宋体"/>
                </a:rPr>
                <a:t>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10:55Z</dcterms:created>
  <dc:creator/>
  <dc:description/>
  <dc:language>en-US</dc:language>
  <cp:lastModifiedBy>万润仪器贸易公司</cp:lastModifiedBy>
  <dcterms:modified xsi:type="dcterms:W3CDTF">2020-08-21T09:02:05Z</dcterms:modified>
  <cp:revision>2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